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laser.wav" ContentType="audio/x-wav"/>
  <Override PartName="/ppt/media/whoosh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7462-5CF5-4FFA-8F35-DB3EA404637B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9BB2-A066-4182-A9B3-3C5BDBCB638B}" type="slidenum">
              <a:rPr b="0" lang="cy-GB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42B-6DDF-49D6-8AE3-87FEF5F4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281-F24B-4A75-BA2E-679B659D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C73-973B-460E-AA9B-0F73814D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430-1BE4-4D7B-B834-492BC2F3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CEA4-4065-459D-9541-D7B16782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8295-AF96-445B-9BFB-59199D31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A0FE-2BAD-463F-8881-5C4F4F25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3959-AB38-4B55-B022-E02C2781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2669-6358-477A-AA46-9B74939B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7396-D8C9-4D1B-BF4F-A20F3BF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3164-6E19-40F6-8CF5-863F7168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4A1-3224-4981-9302-D86A4457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A308-5845-4E14-83BE-111C6C5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7240-24A0-4119-A903-61CCABAF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D200-02F4-45FE-B181-8C7F0E29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CC5B-3402-4E50-A904-E218A0DE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4F6D-9179-445F-8326-709F71E6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84F-6D1E-4394-90C3-3E5B09BB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5DE-04B7-4757-8C39-1BA53D36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9B9-FD32-4F04-83E4-5DAA84C9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2AF-F44F-45D5-BF63-79A46909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9EE-070E-426F-9BBC-25A6234E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629-5E55-407E-BFB0-B3DE1BE2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424-6F53-41AC-8F94-70EB1045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2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80F8-19AE-412E-8E40-B049B322A699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2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3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E045-C5FD-4EEE-96B0-87078E908B75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widiadau mewn Hysbyseb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Footer Placeholder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U 1.1.6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Marchnata Uniongyrch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ostio’n uniongyrchol at gwsmeria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swllt uniongyrchol â chwsmeria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Arial"/>
              </a:rPr>
              <a:t>Chwe Newid Allweddo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nnwys Hysbyseb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ymud o bwyslais ar y Cynnyrch i bwyslais ar y Br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fryng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atblygu technole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elweddu Wedi’i Gynhyrchu gan Gyfrifiadur (CGI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Morff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Hysbysebu Fei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Y Gynulleidf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Yn F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wy Soffistigedi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Wedi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el Addysg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n Llythrennog yn y Cyfryng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n Ymwybodol o Frandi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Marchnatwy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Newid pwyslais gan farchnatwyr mewn ymateb i’r pwyntiau blaenorol – cynnwys, cyfryngau a chynulleidf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Marchnadoe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Datblygiadau Marchn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ewid i F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rchnadoe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lant yn Mynd yn H</a:t>
            </a:r>
            <a:r>
              <a:rPr b="1" lang="sv-SE" sz="3200" spc="-1" strike="noStrike">
                <a:solidFill>
                  <a:srgbClr val="eaeaea"/>
                </a:solidFill>
                <a:latin typeface="Arial"/>
              </a:rPr>
              <a:t>ŷ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n yn I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Heb ei Gyfyngu i Wledydd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gan Iai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 P</a:t>
            </a:r>
            <a:r>
              <a:rPr b="1" lang="sv-SE" sz="3200" spc="-1" strike="noStrike">
                <a:solidFill>
                  <a:srgbClr val="eaeaea"/>
                </a:solidFill>
                <a:latin typeface="Arial"/>
              </a:rPr>
              <a:t>ŵ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er sydd gan Ddelwe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Hysbyseb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u’n rhaid i arferion a phrosesau hysbysebu ymateb i’r datblygiadau a’r newidiadau hyn neu gwympo a methu gyda’u bwriad gwreiddiol – sef sicrhau mwy o alw am y cynnyrch a mwy o refeni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 3 pheth pwysig mewn Hysbysebu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nny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Saf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ersonoliae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reu Delwedd ar gyfer y Br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Rhaid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profi D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elwedd y Brand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yn erbyn canfyddiadau’r cynhyrchwy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Rhaid hef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yd ei brofi yn erbyn disgwyliadau’r gynulleidfa / defnyddwy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wysigrwydd Ymchwil Marchn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143000" y="2133720"/>
            <a:ext cx="7696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</a:rPr>
              <a:t>Brandi</a:t>
            </a:r>
            <a:r>
              <a:rPr b="1" lang="cy-GB" sz="2800" spc="-1" strike="noStrike">
                <a:solidFill>
                  <a:srgbClr val="eaeaea"/>
                </a:solidFill>
                <a:latin typeface="Arial Narrow"/>
              </a:rPr>
              <a:t>o – Delwedd y Brand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Mae brandio’n ddyfais allweddol oherwydd mae’n tynnu’r cynnyrch allan o rai o’r elfennau cystadlu m</a:t>
            </a:r>
            <a:r>
              <a:rPr b="0" lang="cy-GB" sz="2800" spc="-1" strike="noStrike">
                <a:solidFill>
                  <a:srgbClr val="eaeaea"/>
                </a:solidFill>
                <a:latin typeface="Arial Narrow"/>
              </a:rPr>
              <a:t>wyaf amlwg. Mae cyflenwyr cynhyrchion y diwydiant gwasanaeth yn cael cryn drafferth yn gwahaniaethu eu cynnyrch oddi wrth gynhyrchion eu cystadleuwyr. Hyd yn oed os llwyddant i ddod o hyd i nodwedd unigryw, mae’n debygol o gael ei gopïo’n sydyn iawn. Mae cwmnïau gwasanaeth mwy’n tueddu i ddibynnu ar frandio – fel arfer yn defnyddio enw’r cwmni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</a:t>
            </a:r>
            <a:r>
              <a:rPr b="0" lang="cy-GB" sz="4400" spc="-1" strike="noStrike">
                <a:solidFill>
                  <a:srgbClr val="ebd189"/>
                </a:solidFill>
                <a:latin typeface="Arial"/>
              </a:rPr>
              <a:t>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if b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wrpas hysbysebu yw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ael mwy o bobl i bry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ael pobl i brynu mw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rand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Enw, term, dyluniad, symbol, logo neu nodwedd arall a ddefnyddir gan y cwmni i adnabod ei gynnyrch neu wasanaeth. Mae cwmnïau’n ceisio creu delwedd bositif ddeniadol ar gyfer eu brand mewn gwahanol ffyr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Sut y byddwch yn brandio eich Cynnyrch / Gwasanae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rand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mestyn y Brand – defnyddio brand llwyddiannus i gyflwyno cynnyrch newydd mewn categori tebyg o’r un cwmni e.e. diod meddal – fersiwn diet neu flas newydd, model car newy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ut y byddwch yn datblygu gwasanaeth eich cynnyrc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rand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ddasu’r cymysgedd marchnata ar gyfer brand i’w gadw’n boblogaidd a diwedd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eth fydd y cymysgedd marchnata ar gyfer eich cynnyrch / gwasanaeth chi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Personoliaeth y Cynny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Syl</a:t>
            </a:r>
            <a:r>
              <a:rPr b="1" lang="cy-GB" sz="2800" spc="-1" strike="noStrike">
                <a:solidFill>
                  <a:srgbClr val="eaeaea"/>
                </a:solidFill>
                <a:latin typeface="Arial"/>
              </a:rPr>
              <a:t>wedd – wedi’i ddiffinio gan siâp, pwysau, pa mor ddelicét neu ba mor gryf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elwedd – a fydd yn apelio ar wahanol lefelau i wahanol segmentau o’r farchn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Gwerth Defnyddio – WIIFM – y gwerth y mae’r defnyddiwr yn teimlo sy’n cronni iddyn nh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lch Bywyd y Cynny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Amcan o ba mor hir fydd y cynnyrch neu’r gwasanaeth yn pa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G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ellir ymestyn Cylch Bywyd Cynnyrch drwy reoli’r Cymysgedd Marchnata’n ofal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ris - Lle - Cynnyrch - Hyr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wyd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Matrics y B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oston Group –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Datblygu Cynny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843280" y="3068640"/>
            <a:ext cx="4038480" cy="28954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52880" y="3048120"/>
            <a:ext cx="0" cy="2895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2895480" y="4572000"/>
            <a:ext cx="40388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486400" y="34290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Arial Narrow"/>
              </a:rPr>
              <a:t>Sêr y Dyfod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203640" y="3429000"/>
            <a:ext cx="144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Arial Narrow"/>
              </a:rPr>
              <a:t>Plant T</a:t>
            </a:r>
            <a:r>
              <a:rPr b="1" lang="cy-GB" sz="2000" spc="-1" strike="noStrike">
                <a:solidFill>
                  <a:srgbClr val="1f4081"/>
                </a:solidFill>
                <a:latin typeface="Arial Narrow"/>
              </a:rPr>
              <a:t>rafferthu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348000" y="487692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Arial Narrow"/>
              </a:rPr>
              <a:t>Busnesau Cys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19640" y="4800600"/>
            <a:ext cx="12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Arial Narrow"/>
              </a:rPr>
              <a:t>Busnesau Meirw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4724280" y="3733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1f408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3886200" y="4419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1f408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4800600" y="502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1f408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egmentu’r Farchn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ut y gallai cynnyrch unigol gael ei dargedu at y defnyddiw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ut y byddwch yn segmentu’r farchnad ar gyfer eich cwsmeriaid / cleientiaid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6324480" y="2514600"/>
            <a:ext cx="1524240" cy="144792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086600" y="251460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7086600" y="3276720"/>
            <a:ext cx="685800" cy="304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Line 7"/>
          <p:cNvSpPr/>
          <p:nvPr/>
        </p:nvSpPr>
        <p:spPr>
          <a:xfrm flipH="1">
            <a:off x="6933960" y="3276720"/>
            <a:ext cx="15228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6476760" y="3276720"/>
            <a:ext cx="6094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Line 9"/>
          <p:cNvSpPr/>
          <p:nvPr/>
        </p:nvSpPr>
        <p:spPr>
          <a:xfrm flipH="1" flipV="1">
            <a:off x="6324120" y="3124080"/>
            <a:ext cx="76212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Line 11"/>
          <p:cNvSpPr/>
          <p:nvPr/>
        </p:nvSpPr>
        <p:spPr>
          <a:xfrm flipH="1" flipV="1">
            <a:off x="6705720" y="2590560"/>
            <a:ext cx="38088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ich Cyfran o’r Farchn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ut y bydd cwmni’n ceisio ennill gymaint o’r farchnad â phosibl ar gyfer cynnyrch penod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wyddoch chi beth yw eich marchnad a’ch cyfran o’r farchna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6400800" y="2362320"/>
            <a:ext cx="1523880" cy="144756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7162920" y="23623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7162920" y="3124080"/>
            <a:ext cx="68580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Line 7"/>
          <p:cNvSpPr/>
          <p:nvPr/>
        </p:nvSpPr>
        <p:spPr>
          <a:xfrm flipH="1">
            <a:off x="7010280" y="3124080"/>
            <a:ext cx="15264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6553080" y="3124080"/>
            <a:ext cx="609840" cy="381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Line 9"/>
          <p:cNvSpPr/>
          <p:nvPr/>
        </p:nvSpPr>
        <p:spPr>
          <a:xfrm flipH="1" flipV="1">
            <a:off x="6400440" y="2971440"/>
            <a:ext cx="76212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Line 10"/>
          <p:cNvSpPr/>
          <p:nvPr/>
        </p:nvSpPr>
        <p:spPr>
          <a:xfrm flipH="1" flipV="1">
            <a:off x="6781320" y="2437920"/>
            <a:ext cx="38124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 4 Hanfod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mewn Marchnata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 (+ 1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ynny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Hyrwyd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ob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dnoddau Marchn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Hysbyseb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Hyrwyddo Gwerth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ysylltiadau Cyhoedd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aw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archnata Uniongyrch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Hysbysebu – portreadu’r cynnyrch mewn ffordd fel bod pobl eisiau ei bry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Y prif gyfryngau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ysbysebu ar y teled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inem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wn pri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oster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CT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75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I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Diddorde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is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i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y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Hyrwyddo Gwerthu – Ychwanegu gwerth er mwyn cynyddu gwerth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Cynigion Ychwanegu Gwer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Y Pwynt Gwerth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Treialon Ym</a:t>
            </a:r>
            <a:r>
              <a:rPr b="1" lang="cy-GB" sz="2400" spc="-1" strike="noStrike">
                <a:solidFill>
                  <a:srgbClr val="eaeaea"/>
                </a:solidFill>
                <a:latin typeface="Arial"/>
              </a:rPr>
              <a:t>arfero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Hyrwyddo ar y Rad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Hyrwyddo ar y Cy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Cystadl</a:t>
            </a:r>
            <a:r>
              <a:rPr b="1" lang="cy-GB" sz="2400" spc="-1" strike="noStrike">
                <a:solidFill>
                  <a:srgbClr val="eaeaea"/>
                </a:solidFill>
                <a:latin typeface="Arial"/>
              </a:rPr>
              <a:t>aethau</a:t>
            </a: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 – Sialensau Cenedlaetho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sylltiadau Cyhoeddus – ennill gymaint o gyhoeddusrwydd â phosibl, heb orfod talu amdano lle bo’n bosib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Sylw am ddim ar y cyfrynga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atganiadau i’r Wasg sy’n tynnu syl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Cael pobl enwog i gymeradwyo’r cynny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igwyddiadau Arbennig – Cwpan y Byd / Gemau Olympaid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Naw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Darlled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Tî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Digwyddi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0:28:53Z</dcterms:created>
  <dc:creator>Castell Alun HS</dc:creator>
  <dc:description/>
  <dc:language>en-US</dc:language>
  <cp:lastModifiedBy>TimData</cp:lastModifiedBy>
  <dcterms:modified xsi:type="dcterms:W3CDTF">2015-05-06T18:16:28Z</dcterms:modified>
  <cp:revision>7</cp:revision>
  <dc:subject/>
  <dc:title>Marketing and Promotion</dc:title>
</cp:coreProperties>
</file>